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EB7-D400-4DB4-96AA-8E658870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F5C-D744-448F-9C02-B48D72BD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FA9-1FFC-43D1-9EED-73AF0ED5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F13-1A2D-47AB-ADD0-3C54161E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489D-9F82-435C-A40E-C5311BA6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A841-9E01-479F-AFE7-4598BCC9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D577-4A91-46FD-B11D-4C5CBD47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BCD4-74CC-4C0A-A3CE-FB2A2055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6413-0BCE-4B64-9D67-229742F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279D-10A2-4813-B77D-58EB203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EB60-1F58-4774-B276-9FB68E3B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232-24E6-4DC7-AC1D-080C2E3D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72EA-411C-4AEC-B214-B8FD123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E67B-B3D4-4CAD-86C9-5B4CA8C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9FC-3487-43F7-B569-6348CD38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5180-C0AE-4BE4-8913-8C730DC5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97C3-9583-4A32-B20F-F9BD38A6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99FCD-92B5-4DC0-8E62-B2E0F8C9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AD6C4-7C12-483F-9897-6B840A3C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A291C-4D62-4EE8-8FDE-98E8B88E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40874-1D75-4198-BDF9-579A6251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0129D-CF5C-466C-9A2F-C100574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107D-2DDF-44D5-934C-E2C7AA9E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5BDAB-A724-4D4E-9BCE-B33A0A50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5F597-FDA8-4A21-8650-8A09171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B9442-AED6-42E6-95D1-C1D820D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E8DC3-F09E-4E92-9B31-069B7F5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433B9-538D-4F7B-9ECB-012EF46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AB0E3-6555-4B21-9949-17BEB5B7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31761-31FC-4BEF-AD47-1C0AC567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35F69-75BF-4BBF-AE95-9F37348B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90BAC-268A-4529-BD1C-7E6CE9D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B51FC4-724F-4916-B3EE-EEE3DB8A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13D-6F8A-4B3B-820B-5A570F3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0C455-7AEC-4CC6-9824-FA357A1F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6E4BB-2CFD-49DD-8480-2F7AA05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26CCD-5FD8-4E94-BB38-A2969F5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C802E-C91E-445B-8198-55EBA8C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1A5AF-CEE2-4EC0-B4B5-78A062F5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9EC15-65D3-4AE1-AE68-BBEC9C1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983E8-F66B-47D7-BAAB-D5F78B62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17244-60B1-48B1-B28A-9B156382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34C7C-2C7E-449F-8911-0A080DD4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E364D-D405-46ED-950E-5D8CD354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15E-9773-44B0-81C7-233DE65F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D1C50-1650-413B-9FBF-15ACEFB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AB4B3-A94D-4D27-82C6-86B0D81D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92ABE-41BC-4EA9-B5BE-60B5DCBE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B020A-C90E-45E9-8400-5A78C199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B2728-6BFF-4925-94C8-F1DC03C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427A2-D4B9-4419-90CA-4E561B6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0C8B8-A011-4B4B-A3C9-7235B0C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7D772-BFA1-4A4C-8A70-6861DE3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DEB1B-8B5C-4B4E-A889-43BC98D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880BB-20D4-4FDD-8C65-4D5629D9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0F9-A5A6-4503-AE45-574CBCA2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926CD-ABE2-4DA6-9A80-D687086B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F35F-0577-49D9-84F7-EDBAA91D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0B98-507A-40D9-BF64-12CBD8B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E3F9-2E32-427F-92B4-56260411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EB607-887C-4AD1-93A0-AFF8FB8C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C2A00-56E5-4DCD-9110-F4CEBC44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77CE-2E4B-438B-9C25-7EA86FE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93E3-7D62-4302-AEFD-193374B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A104-0764-4F76-A82A-90946E4D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84DC8-A6A1-4CAB-B5D0-F05B6A2D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AF6-7537-407F-A856-2FBC812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26377-F6BA-43BB-9CBF-DC7DB74C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1D042-911C-4639-A0E4-16A30785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E4EA-61A6-467F-AB34-FBF5B32C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5E192-C5B3-4D74-A5AA-BAEA54C4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A06F0-1D69-4B90-93D0-DA9DA73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FC81E-8F6C-4752-9785-5A564CD1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E032F2-0342-4CA2-8412-698D52D8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99E09-1A58-4C04-8F22-5FFE1745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CD2F3-8516-4ABB-B7E8-EF8344D6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1E308-E7EF-475B-9C6D-0D82E6F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874-E9D4-407D-ADB0-F68FC5C5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D77A2F-269E-45EE-A09E-6435E20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C9199-637A-4287-92FD-B5101DF5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912AE-5099-4345-9509-0E8535B2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0B188-607F-467D-8CE4-E75716C2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25343-E579-4F87-9519-4E6FBE88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507A2-3E0A-4D6C-8A6A-DE64E44E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8297-0A7C-4277-B9F9-DB1E054D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4D3C-2166-4607-99B6-60A40C73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11195-2032-47CA-BE3E-D5C203FA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FE02-53D2-4EA4-8C06-B1813E9D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AA0-C187-459A-9C3D-97EDFD8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001D5-8AAD-44AF-BCFD-A5225B47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28103-2C41-48B3-BA17-585CB54B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BD135-7474-4214-9D60-EC6FDC2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A12DB-2664-4C5E-A5BE-1760384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6DA1-27A3-4E5A-8B7E-D663FE7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22EA5-369E-42B8-B241-0205A512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985B-554B-476D-926C-4379622E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2DC4-0EB8-4F41-8BF0-18C25366621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EC0D-FC43-4DB2-8BFD-314667320F2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5DB3-BDE1-41A7-BB26-22D1F2F8B1A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9D94-E09B-40BC-8F5A-0917C3A6A5E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E086-1C67-4419-AD7E-0633E20C6B6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612C-E7E5-413D-B46D-A413A2654E9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291A-FBC5-4016-A9AD-24BBA9B3EC3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3BC4-C5D4-49BD-8960-4F3542153AD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JOSEPH GOEBBE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Johne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429000" cy="478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spartacus.schollnet.co.uk/goebbels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britannica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pbs.org/wgbh/amex/holocaust/peopleevents/pandeamex98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jewishvirtuallibrary.org/jsource/holocaust/goebbels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ww.holocaustresearchproject.org/holoprelude/goebbels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arly Lif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rn in Rheydt, Germany on October 29, 1897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 short stature and crippled foot would torment him throughout his lif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 father was a subordi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ffice work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257800" y="2809800"/>
            <a:ext cx="3095640" cy="404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ducation and Early Care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360" y="1600200"/>
            <a:ext cx="5102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s disfigured foot prevented him from joining the German army in WWI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ceived a doctorate from Heidelberg University in 192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 then attempted to pursue a career in literat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ote novels, plays, and poems, but had difficulty finding publishers who would accept his wor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962680" y="1600200"/>
            <a:ext cx="3181320" cy="44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ise to Pow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iling as a writer and afraid of being considered a bourgeois intellectual, Goebbels joined the Nazi party in 1924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 immediately utilized his intellectual powers to create propaganda and control enemy publicatio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though he was not entirely liked by other party leaders, but his friendship with Hitler provided opportunities for advancement and he became the party’s chief propagandis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Master Propagandi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the Nazis’ Minister of Propaganda, Goebbels was responsible for managing projects to produce pro-Nazi films, radio programs, books, and advertisement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 was also the editor of a number of Nazi newspap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Kristallnac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ebbels was responsible for ordering the Kristallnacht massacre on November 9, 1938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752480" y="2637000"/>
            <a:ext cx="4953240" cy="42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Beginning of the E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360" y="1600200"/>
            <a:ext cx="3730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ebbels was the first to acknowledge the inevitable defeat of Germany after the fall of Stalingrad in 1943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ever, despite this failure, German morale persisted with cleverly reassuring propaganda from Goebb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496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End of the Third Rei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360" y="1600200"/>
            <a:ext cx="4568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Russian troops approached Berlin, Goebbels retreated into Hitler’s subterranean bunk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Hitler committed suicide on April 30, Goebbels became the ruler of German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ever, this would not la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108240" cy="447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at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360" y="1600200"/>
            <a:ext cx="4568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xt day, Goebbels, his wife, and their six children committed suicide.  Their bodies were burned outside the Führerbunker and discovered by Soviet troops several days afterwar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666880" cy="422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10:13Z</dcterms:created>
  <dc:creator> </dc:creator>
  <dc:description/>
  <dc:language>en-US</dc:language>
  <cp:lastModifiedBy> </cp:lastModifiedBy>
  <dcterms:modified xsi:type="dcterms:W3CDTF">2009-11-25T17:10:41Z</dcterms:modified>
  <cp:revision>17</cp:revision>
  <dc:subject/>
  <dc:title>Joseph goebbels</dc:title>
</cp:coreProperties>
</file>